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05F5-82F3-4669-9536-D6DD377239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15CB-AB07-42BD-8173-9863D9968B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75C7-8DFD-4360-80D7-E96B92ECF9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D61A-8751-4244-A73E-2D0855762B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5AB7-9AAA-4B56-A8A2-C15DF94DCE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CDDF-CD63-4C27-8870-0BF68FC1BF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0E2B-F3E8-45E4-A597-6F8CE193D7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2F40-29D9-4630-A440-7FEC80751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0C1-1D57-414A-B006-5162A3E7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78A-2E3F-4750-B19D-04D39718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F34-852D-4AEB-AD3F-BC951E4F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F70-8883-4A53-9364-A69E3EDA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42CF-16C4-4D44-83B1-98CD9810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871F-076E-49F8-90C4-948E231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1A45-3D8E-4F6E-942D-C4425DA5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B782-858E-422A-99B2-918C5C5C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053B-2F40-4256-9D87-A072189B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D8CC-BD36-4BFE-9E9F-D91886E6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19D-6CA9-4FF7-A7E0-E48C3C58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1EF-0410-4256-8DE0-A4F31357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38B6-895C-48EF-BDE8-8BE7A4EC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CDCD-3AED-4C00-9762-B1351981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9239-D9BA-4B80-9156-69443EBE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782A-81A8-4D1B-9776-3ECF3F06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7E29-00EF-455C-B7FB-6A525D77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C4BE-9265-4FC6-A9BC-0986D429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D160-7DEC-473A-B55B-EC7920A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3463-9920-4D6B-AA62-9F2E580F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76D7-73E6-44FF-AAF8-EA3C1C06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85072-F2B9-433F-B3FC-3781BDF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C22-D73B-4A99-98D4-5383E753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C175-DBA3-4923-92E5-56CE2CA6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A679-6F1F-4EEE-9141-7E0B54A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95FF-CDBA-4149-AA66-8F87F45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F7B4-A8CD-4100-AED2-6D05852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4F79-CC9F-409E-BDF4-7E27A302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C901-89DF-4BD6-A0D3-8344F7F4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2D6E-B98F-42E6-90D1-8ABC39C0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8C01-6F80-4247-8120-CC5B66A8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EDC3-4D08-42EA-AEDF-31D59F2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E5F3-7655-455E-A266-EF9B4327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8D4-5CC1-4F0F-9E74-C5F5C27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147CC-7173-40F0-B0BB-BEC14F12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96C9-584E-4192-A109-DD06C107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9BE0E-777D-4C40-BB20-AF92D1F5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BC4F7-3E8A-40BF-BC90-897A5C78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0C2E-AE09-4FAD-8433-1ED45A82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34E95-AD3E-46CC-A1B0-39341DF1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2607-DD76-40C8-8C42-E409EB55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8EB2-2E66-4F0D-930D-7380353F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4EC97-DD81-4786-A90F-1894F0A9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26CCF-A445-48E0-9D23-322E633F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ABE-B212-4BA4-90EF-B9D6648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B713A-9C35-4398-8379-68F1AB6E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388E4-A326-4506-9D38-BD8AC78C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96DD2-48D2-4632-B439-D07BD068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424C-E5DC-48C1-9BBD-E28FA37A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78864-87EB-44CC-9341-6257910B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22B10-CA0B-4F8E-9213-FFA18A9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2B196-33B2-442E-B8F9-B589F0B0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AE26-4362-447A-9D3E-68CB12D8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E5B9-27BA-4D88-8F8B-09B651D2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1D3F7-F7E1-4505-935A-0DEB8966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FBE-DE21-497D-9985-8C3EDAF8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50A0C-F980-4EF7-805B-BC4C0BAB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DBA-8790-4ECD-9F8D-EA3AD038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486-3366-48C4-A65B-2E3DF8C5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215-3203-4C1A-BC6B-A619240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C8BE-3CD7-44FA-B2DF-27B858AB962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C22B-2849-4F78-AE0D-717838546A6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6795-2C93-473F-AC7B-CA47097FFFF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6FE3-C8F4-4A94-945F-7E724680FEE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CA23-3E45-4053-991A-46EB92911E9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16 ноября -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57160" y="36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Verdana"/>
              </a:rPr>
              <a:t>Международный день толерантност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1"/>
          <p:cNvSpPr/>
          <p:nvPr/>
        </p:nvSpPr>
        <p:spPr>
          <a:xfrm rot="238200">
            <a:off x="3097080" y="1695600"/>
            <a:ext cx="3664080" cy="32526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леран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3"/>
          <p:cNvSpPr/>
          <p:nvPr/>
        </p:nvSpPr>
        <p:spPr>
          <a:xfrm flipH="1">
            <a:off x="4928760" y="1000080"/>
            <a:ext cx="1800" cy="928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6143760" y="3429000"/>
            <a:ext cx="114300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2"/>
          <p:cNvSpPr/>
          <p:nvPr/>
        </p:nvSpPr>
        <p:spPr>
          <a:xfrm>
            <a:off x="4815720" y="4944960"/>
            <a:ext cx="34920" cy="6271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7"/>
          <p:cNvSpPr/>
          <p:nvPr/>
        </p:nvSpPr>
        <p:spPr>
          <a:xfrm flipH="1" flipV="1">
            <a:off x="2285640" y="3429000"/>
            <a:ext cx="150012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2"/>
          <p:cNvSpPr/>
          <p:nvPr/>
        </p:nvSpPr>
        <p:spPr>
          <a:xfrm flipV="1">
            <a:off x="6300720" y="1499760"/>
            <a:ext cx="628560" cy="7635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H="1" flipV="1">
            <a:off x="2928960" y="1499760"/>
            <a:ext cx="1285920" cy="10717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H="1">
            <a:off x="3357720" y="4500000"/>
            <a:ext cx="642960" cy="5713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>
            <a:off x="5929200" y="4500720"/>
            <a:ext cx="928800" cy="8571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44"/>
          <p:cNvSpPr/>
          <p:nvPr/>
        </p:nvSpPr>
        <p:spPr>
          <a:xfrm>
            <a:off x="4500720" y="3643200"/>
            <a:ext cx="914400" cy="92880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50"/>
          <p:cNvSpPr/>
          <p:nvPr/>
        </p:nvSpPr>
        <p:spPr>
          <a:xfrm>
            <a:off x="4071960" y="642960"/>
            <a:ext cx="1785960" cy="9856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мириться с чужим мне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1"/>
          <p:cNvSpPr/>
          <p:nvPr/>
        </p:nvSpPr>
        <p:spPr>
          <a:xfrm>
            <a:off x="6643800" y="714240"/>
            <a:ext cx="2071440" cy="9288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Терпимость к другим верования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2"/>
          <p:cNvSpPr/>
          <p:nvPr/>
        </p:nvSpPr>
        <p:spPr>
          <a:xfrm>
            <a:off x="6929280" y="2928960"/>
            <a:ext cx="1857600" cy="10717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а быть ин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53"/>
          <p:cNvSpPr/>
          <p:nvPr/>
        </p:nvSpPr>
        <p:spPr>
          <a:xfrm>
            <a:off x="714240" y="714240"/>
            <a:ext cx="228600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онимать и принимать человека таким , каков он е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54"/>
          <p:cNvSpPr/>
          <p:nvPr/>
        </p:nvSpPr>
        <p:spPr>
          <a:xfrm>
            <a:off x="357120" y="3000240"/>
            <a:ext cx="19144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роща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55"/>
          <p:cNvSpPr/>
          <p:nvPr/>
        </p:nvSpPr>
        <p:spPr>
          <a:xfrm>
            <a:off x="1071720" y="4786200"/>
            <a:ext cx="23428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Проявлять сострадание, милосерд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авая фигурная скобка 56"/>
          <p:cNvSpPr/>
          <p:nvPr/>
        </p:nvSpPr>
        <p:spPr>
          <a:xfrm>
            <a:off x="6929280" y="521496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7"/>
          <p:cNvSpPr/>
          <p:nvPr/>
        </p:nvSpPr>
        <p:spPr>
          <a:xfrm>
            <a:off x="6643800" y="5000760"/>
            <a:ext cx="1928880" cy="10573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 други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58"/>
          <p:cNvSpPr/>
          <p:nvPr/>
        </p:nvSpPr>
        <p:spPr>
          <a:xfrm>
            <a:off x="3857760" y="5572080"/>
            <a:ext cx="198576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человеческого досто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d3e"/>
                </a:solidFill>
                <a:latin typeface="Verdana"/>
              </a:rPr>
              <a:t>Пропущенные слова : дружба, уважение, расположение, человеколюбие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, чтобы нас уважали, то мы также должны иметь _______ к другим людям.( Кант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крет успеха в обществе прост: нужна сердечность и _______ к другим.(Эмерсо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 быть любимы, то надо также проявить _________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ее, что есть в жизни человека,- это его __________ с другими людьми.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Паломничес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м объектом паломничества христиан является _______ в городе 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мусульман чрезвычайно важно паломничество в город 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удеи главной своей святыней считают город _____, храм, который получил название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ломничества в буддизме ( _____) начались с поклонения останкам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Религиозные праздник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иудаизма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христиан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мусульман-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ый важный праздник буддистов-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__________ , уметь _________   с существованием чего-либо, кого-либо, быть ___________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8d3e"/>
                </a:solidFill>
                <a:latin typeface="Verdana"/>
              </a:rPr>
              <a:t>Выдержка, примирение, великодушие, снисходительность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нисходительный, великодушный, милосерд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щает, принима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выдержанным , уметь  мириться  с существованием чего-либо, кого-либо, быть снисходительным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4:54:28Z</dcterms:created>
  <dc:creator>admin</dc:creator>
  <dc:description/>
  <dc:language>en-US</dc:language>
  <cp:lastModifiedBy>Людмила</cp:lastModifiedBy>
  <dcterms:modified xsi:type="dcterms:W3CDTF">2013-04-12T06:00:49Z</dcterms:modified>
  <cp:revision>40</cp:revision>
  <dc:subject/>
  <dc:title>ТОЛЕРАНТНОСТЬ -ТЕРПИМОСТЬ</dc:title>
</cp:coreProperties>
</file>